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119-22ED-451F-AD77-88CAF5CC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6CDE-2473-4618-9EDA-0D57A363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F910C-337B-4479-B0D8-EF59E7E9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6BC99-8D94-407F-9BFB-CF22195B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D0555-0A27-44BB-B753-FE0E0B1F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A9BCD-F2ED-4958-B5F1-5AD15E30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E9B0A-2201-4A47-BA21-4FFD7236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FC4F0-FAE5-49AF-AA03-C86EF735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A5DE4-2C43-4933-9C66-0D34A176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638EF-34D9-4EF7-ADC8-0E859B4F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0BF1A-47CD-4BD7-9DA2-E00D9FB1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2E26E-A2E5-45E0-B952-044B3F96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C53-2471-4D00-A299-905C625E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A655C-FF9B-4C66-8E0C-E29F41CF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CEC00-6F76-4792-B23A-2FCC2BF8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AD027-13E6-406C-B487-50030057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FB54D-D44B-482A-93DA-4B3D9267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D94A3-33D4-41FB-9F8A-F78B341B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933C8-A3BB-4CCE-8787-FCA2FCA9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E1A03-001A-495E-9CB6-E5C9B38C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24A71-8987-483E-8B3A-4B111C35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2E53E-1D39-4B17-9EF0-2D648A99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970C4-75D5-4F68-993A-7753A386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449E-92E6-4981-8231-9CDD0B08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004EE-B705-44BE-8093-A495F4D6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DD43B-4156-47E1-93D1-EBE84D12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091DE-92BF-406D-8AC9-E0DDD615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3E481-6116-498C-9269-ABF96602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CC719-B65E-48FB-855E-04739D53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7F46E-9729-4809-936B-E10D82AA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5440C-0EC7-4410-BAE7-C499886C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3277A-BC3E-41F6-B710-2D53B07F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DDA4D-69C9-4A34-9584-32015C9A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C6EBE-43F7-4279-BD26-E6D877BE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7778-112F-4C78-890A-B6183A44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3D2F8-0CB3-4B9E-A6C9-3A023DA4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BDADA-0A2C-4AC0-825B-F6F9ABA2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7E660-3E79-4876-B588-EB113D18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66ECF-3605-4291-B4DF-7B0A9B76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E0D07-489D-48F6-8BB6-DD943AAE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F033A-30FA-484E-B943-CF4E6D80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C9A27-BB09-4322-8B63-5CB2A13E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8D53E-1FFE-4B11-90A6-BAEC8DA1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98567-D1D5-4CFD-9DFA-7F0EC35E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97AAA-A451-47BB-9090-535D5975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71EA-8110-4AD0-826B-5694877D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CDA27-D99F-4706-B2FD-783DA73C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8A23A-C269-4F39-A2C9-7D61F657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D716D-3ED6-4656-9313-3370CEA9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88BD7-9C61-4F4E-A406-9469C271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75BAB-D29D-4018-BFE1-859C2D7F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AB7294-2AF5-4824-BFF0-A8098475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D3933F-1754-404B-96A0-454F6F50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C4E42-B3C4-4557-9999-F638C08C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E8076D-481D-49BA-BA1D-C9D31044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F13FE-21A9-4116-BE77-5E5DE7C2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91F9-9DEC-4CC8-9DD3-9EA2DF6F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9E1C6-C97B-40C8-94E1-DAB8B73A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AFCEE-5D6F-418E-8AD7-D53AAAD3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102CE-02A9-4E5A-B321-A34A589A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48A11-995E-4970-97D7-DAAFF6E9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2C71D-2283-4185-9A10-6A180F80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1F3EF-1645-45D6-9919-DC8853B0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11C89-8452-43F9-B6E6-A96495DC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8E24-810B-4921-A69E-590226EF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21F4-65B1-4553-876D-8953476A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2D0F-E86C-4978-8AC6-DB195FBF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567C-9EF2-443A-B3DB-409566B9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58E-F57D-4D14-AF0D-44E03F33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9EB0-813D-414F-9BF8-3D4FB240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093D-3AC8-440F-AE90-C46C2F67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BD84-B16E-44FC-B00D-69DDFBF1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627E-35CD-4A02-9EAB-4628F04F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B8B0-99B4-4AD5-A5B1-AA2B24E2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A535A-C6D3-4122-9508-E953ED93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3B89E-6CB6-4FA9-88D9-298CE5FF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CD307-8830-4F14-BC26-98EF16CA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2D363-A525-4B2E-BB1B-B03DCB67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58447-CD6E-49D6-9A3C-F60DEC93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359D-8EDA-4026-A7C2-D5A6C3EC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5DEF1-414C-48D0-998B-047B8C1E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5C5FF-4A04-4E3F-9995-1376612A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B8D93-8034-4C8E-B204-55BE8A30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BE6A6-28A3-410C-8B64-E26AFAF1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420A0-AACD-40A8-983E-65A1583B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9DCCA-20D9-4087-8BF8-B17BE0FB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670D1-7B98-4CA6-B817-F953D209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CF290-06C5-4299-973D-24C6F7EE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26C78-8598-457A-AB50-5B26BA04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2E579-903A-4863-8237-9F3D3A4E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356F-AC8C-453E-8361-F35674C8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2A944-1EAB-4880-B09A-32C2549A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0A3FF-E126-4420-8728-BEB8F8E3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4501B-3906-4518-B381-39AD381E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53D4E-2374-4F99-A800-174FD924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A4F34-8131-4846-B808-2106EAC8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353B7-BC65-4811-85F4-C9B5D452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CA61E-94B2-425C-8F90-DED6809A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D13A6-8602-4334-BCB3-BC7FEA90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A8367-367C-4DC4-9A07-9B8E5F18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6B507-8176-4638-9F35-8A9636FC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B98-8C3F-4CA7-A486-5324C69B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C2DCB-A4CF-41AC-A9BC-66F45C06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57019-9321-4F8B-9B35-3DC6AFAE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368BD-1BF4-4399-9AF7-E3B6076A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EF5DE-85D0-4736-9A80-D93F010D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E2671-0F7B-4B9C-9979-26E3060D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DFDB9-1D60-4CCC-B27D-C5BBD9F7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D8E27-D04C-488B-9EB3-8C4A3074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78470-6171-4DD3-BDBF-E5E6B6D5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4B041-9C4C-477E-852E-E8C865FB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32C21-0312-4808-90DE-B465C08B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7F8-7CD7-4225-985F-88429A51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9BB7A-70F8-4687-964D-72FB3D11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EE289-F537-4AD4-8FC5-F71B898E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1ED21-E372-4B70-8ECA-9E7D55D7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0FB4A-9111-4878-9EFA-10CD189D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7FE3A-33F4-4D0F-8A9A-BEA5D135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312EB-8C02-4805-B80B-2473424C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46A9D-F363-47C7-AFD4-C420E9C4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F2C75-CC1B-4452-AE96-D58A46DD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4EA09-0105-461F-8CD0-891A78BA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5DEE7-FCAB-4FA8-8A8A-3D8B660E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58A-2CD0-476F-B008-FB3BAA8D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D4B7B-5911-4508-BB85-17B1E3A8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F0480-CD6B-4EDD-8BE8-25BF4EF3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C7142-73DA-4AAA-A82B-4F69645A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9542E-2A75-499C-BC46-AC787D70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23F6C-B132-40C0-8E7E-7CE0575B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1C59E-E8F5-4960-BECB-6CACC707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B9B86-9C5D-406F-89FB-AFD91523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435F9-0BFC-4DE0-875D-3F4CF727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CD4E0-CE15-46B2-8062-48CEBC2A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F73D1-E052-4A10-909E-98F8D9ED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3CD4-2E7E-41C5-B237-5BE7B37E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B6587-CF9E-4CCA-99E8-050B2419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011F5-A8D4-425A-BD83-A00ABCA5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51964-162C-49E5-AA7A-B2C56E01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7FD63-5688-44ED-AD9C-40EAE47A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82848-BA14-4A76-A972-943BA7A6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B7570-8471-4E16-9654-1908F00A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7F4C7-64F6-45A3-AD02-62600608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ED55A-E89E-4699-BBDB-7B877B0F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72739-1E6E-41E8-95E1-F919B55E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5D9C7-09BD-4455-9AFE-2AD2D9C3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E77-8115-43B2-BA83-AB2C7E9C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BB16A-D1D5-46B6-A781-ECFA0CB1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7B8F2-2703-4864-BC4E-3CE64D33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8DB08-96F7-4B87-9B47-75089700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39001-A75B-4803-98BE-9D150327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B65CB-F3DB-4F38-B0F7-65E9270C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CD3B3-82FE-44A3-846E-19497503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44DF5-DE3A-4D41-83A6-6EB14DDC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730F3-D9CC-42CD-AABD-F242D8CB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07DA7-9E10-4381-89C4-011AA965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5802D-6C02-4AB4-93F0-31C8C8B1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EBD0-F0FB-4DB3-A5BF-F1B8D09F3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1CF3-D487-48B0-A301-30B6F676C2C1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375D-7846-409E-859B-2D41DB1510E8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C43D-5050-4D9B-8FFC-0F6D6D2DC7A6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9BB8-33DE-407B-9684-BD05E75EF11F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8D31-F446-41A6-AF1B-9907CC9B62B0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F322-CAAF-4376-8C59-18440EFA0A9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33" name="Oval 9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1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1C6B-1C1C-4B21-8C57-E086BC7ECB2A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8928-1280-464D-94EC-3C1A055102A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D866-03B1-43EB-BD9E-20B4949F037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FE95-0C5E-4E09-871F-C0C5ADBE2F7F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7A5D-B1D8-44ED-8A00-372EA608838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B6F1-7E84-49D8-8E60-681DDEC87780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chemguide.co.uk/index.html#top" TargetMode="External"/><Relationship Id="rId2" Type="http://schemas.openxmlformats.org/officeDocument/2006/relationships/hyperlink" Target="http://www.chemtutor.com/acid.htm#strong" TargetMode="External"/><Relationship Id="rId3" Type="http://schemas.openxmlformats.org/officeDocument/2006/relationships/hyperlink" Target="http://homepage.mac.com/stray/ib/chem/index.html" TargetMode="Externa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122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Palatino Linotype"/>
              </a:rPr>
              <a:t>T08D03 – SL/HL Chem 2</a:t>
            </a:r>
            <a:br>
              <a:rPr sz="4800"/>
            </a:br>
            <a:r>
              <a:rPr b="1" lang="en-US" sz="4800" spc="-1" strike="noStrike">
                <a:solidFill>
                  <a:srgbClr val="c00000"/>
                </a:solidFill>
                <a:latin typeface="Palatino Linotype"/>
              </a:rPr>
              <a:t>Acids and Base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228600" y="2133720"/>
            <a:ext cx="441972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1272e"/>
                </a:solidFill>
                <a:latin typeface="Palatino Linotype"/>
              </a:rPr>
              <a:t>The pH of Weak Acids and Weak B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5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5654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335160" y="304920"/>
            <a:ext cx="85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Arrhenius acid is a substance that produces 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21272e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)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3" descr="C:\Chang Powerpoint\Figures\cng7ch04\cha56011_0407L.jpeg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18129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" descr="C:\Chang Powerpoint\Figures\cng7ch04\cha56011_0408L.jpeg"/>
          <p:cNvPicPr/>
          <p:nvPr/>
        </p:nvPicPr>
        <p:blipFill>
          <a:blip r:embed="rId2"/>
          <a:stretch/>
        </p:blipFill>
        <p:spPr>
          <a:xfrm>
            <a:off x="228600" y="3886200"/>
            <a:ext cx="8686800" cy="211788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5"/>
          <p:cNvSpPr/>
          <p:nvPr/>
        </p:nvSpPr>
        <p:spPr>
          <a:xfrm>
            <a:off x="317520" y="3352680"/>
            <a:ext cx="79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Arrhenius base is a substance that produces O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1545840" y="228600"/>
            <a:ext cx="60602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21272e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21272e"/>
                </a:solidFill>
                <a:latin typeface="Arial"/>
              </a:rPr>
              <a:t>nsted acid is a proton do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21272e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21272e"/>
                </a:solidFill>
                <a:latin typeface="Arial"/>
              </a:rPr>
              <a:t>nsted base is a proton ac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Picture 3" descr="C:\Chang Powerpoint\Figures\cng7ch04\cha56011_0408L.jpeg"/>
          <p:cNvPicPr/>
          <p:nvPr/>
        </p:nvPicPr>
        <p:blipFill>
          <a:blip r:embed="rId1"/>
          <a:stretch/>
        </p:blipFill>
        <p:spPr>
          <a:xfrm>
            <a:off x="0" y="1849320"/>
            <a:ext cx="9144000" cy="222912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4"/>
          <p:cNvSpPr/>
          <p:nvPr/>
        </p:nvSpPr>
        <p:spPr>
          <a:xfrm>
            <a:off x="3051000" y="40831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536040" y="4108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5503680" y="40784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j.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7511760" y="407196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onj.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Group 11"/>
          <p:cNvGrpSpPr/>
          <p:nvPr/>
        </p:nvGrpSpPr>
        <p:grpSpPr>
          <a:xfrm>
            <a:off x="228600" y="4876920"/>
            <a:ext cx="8700480" cy="1770120"/>
            <a:chOff x="228600" y="4876920"/>
            <a:chExt cx="8700480" cy="1770120"/>
          </a:xfrm>
        </p:grpSpPr>
        <p:sp>
          <p:nvSpPr>
            <p:cNvPr id="615" name="Text Box 8"/>
            <p:cNvSpPr/>
            <p:nvPr/>
          </p:nvSpPr>
          <p:spPr>
            <a:xfrm>
              <a:off x="2057760" y="4876920"/>
              <a:ext cx="687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 Br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ø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nsted acid must contain at least on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onizable proton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" name="Picture 10" descr="D:\mhp\Common\MSShared\Clipart\Standard\stddir1\BD06107_.WMF"/>
            <p:cNvPicPr/>
            <p:nvPr/>
          </p:nvPicPr>
          <p:blipFill>
            <a:blip r:embed="rId2"/>
            <a:stretch/>
          </p:blipFill>
          <p:spPr>
            <a:xfrm>
              <a:off x="228600" y="4876920"/>
              <a:ext cx="1757520" cy="177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8520" y="-305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Conjugate Acids and Base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Conjugate pairs are two substances that differ by one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(they gain or lose one PROTON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Cl (acid) </a:t>
            </a:r>
            <a:r>
              <a:rPr b="0" lang="en-US" sz="28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  Cl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(conjugate base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(base) </a:t>
            </a:r>
            <a:r>
              <a:rPr b="0" lang="en-US" sz="28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 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(conjugate acid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When an acid loses a proton it becomes its conjugate bas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 </a:t>
            </a:r>
            <a:r>
              <a:rPr b="0" lang="en-US" sz="28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O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    or      HCl </a:t>
            </a:r>
            <a:r>
              <a:rPr b="0" lang="en-US" sz="28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+ Cl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When a base gains a proton it becomes its conjugate acid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 </a:t>
            </a:r>
            <a:r>
              <a:rPr b="0" lang="en-US" sz="28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  or     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>
    <p:newsflash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Conjugate pair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Conjugate base of the acid H</a:t>
            </a:r>
            <a:r>
              <a:rPr b="0" lang="en-US" sz="36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SO</a:t>
            </a:r>
            <a:r>
              <a:rPr b="0" lang="en-US" sz="36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HSO</a:t>
            </a:r>
            <a:r>
              <a:rPr b="0" lang="en-US" sz="36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-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Conjugate acid of the base HS-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36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S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Conjugate acid of H</a:t>
            </a:r>
            <a:r>
              <a:rPr b="0" lang="en-US" sz="36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O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36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36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Conjugate base of H</a:t>
            </a:r>
            <a:r>
              <a:rPr b="0" lang="en-US" sz="36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O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OH</a:t>
            </a:r>
            <a:r>
              <a:rPr b="0" lang="en-US" sz="36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Bronsted-Lowry Acids and Base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NH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+  OH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  </a:t>
            </a:r>
            <a:r>
              <a:rPr b="0" lang="en-US" sz="3200" spc="-1" strike="noStrike">
                <a:solidFill>
                  <a:srgbClr val="21272e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 NH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+ H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O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Acid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   Base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 C. Base  C. Acid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C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21272e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HC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O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Base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  Acid 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    C. Acid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C. Bas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Dissociation Constant (K)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is the dissociation constant for acid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b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is the dissociation constant for bas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The higher the constant (K) the Stronger the acid or bas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Weak acids and bases have a smaller dissociation constant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1272e"/>
                </a:solidFill>
                <a:uFillTx/>
                <a:latin typeface="Palatino Linotype"/>
              </a:rPr>
              <a:t>Strong acids produce weak conjugate bases while weak acids produce stronger conjugate bases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165240" y="21744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72e"/>
                </a:solidFill>
                <a:latin typeface="Arial"/>
              </a:rPr>
              <a:t>Monoprotic</a:t>
            </a: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651240" y="80172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HCl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 H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+ Cl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662040" y="1314360"/>
            <a:ext cx="2258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HN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H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+ N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Group 44"/>
          <p:cNvGrpSpPr/>
          <p:nvPr/>
        </p:nvGrpSpPr>
        <p:grpSpPr>
          <a:xfrm>
            <a:off x="666000" y="1827360"/>
            <a:ext cx="3391920" cy="440640"/>
            <a:chOff x="666000" y="1827360"/>
            <a:chExt cx="3391920" cy="440640"/>
          </a:xfrm>
        </p:grpSpPr>
        <p:sp>
          <p:nvSpPr>
            <p:cNvPr id="629" name="Text Box 10"/>
            <p:cNvSpPr/>
            <p:nvPr/>
          </p:nvSpPr>
          <p:spPr>
            <a:xfrm>
              <a:off x="666000" y="1827360"/>
              <a:ext cx="3391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1272e"/>
                  </a:solidFill>
                  <a:latin typeface="Arial"/>
                </a:rPr>
                <a:t>CH</a:t>
              </a:r>
              <a:r>
                <a:rPr b="0" lang="en-US" sz="2000" spc="-1" strike="noStrike" baseline="-25000">
                  <a:solidFill>
                    <a:srgbClr val="21272e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21272e"/>
                  </a:solidFill>
                  <a:latin typeface="Arial"/>
                </a:rPr>
                <a:t>COOH 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</a:t>
              </a:r>
              <a:r>
                <a:rPr b="0" lang="en-US" sz="2000" spc="-1" strike="noStrike">
                  <a:solidFill>
                    <a:srgbClr val="21272e"/>
                  </a:solidFill>
                  <a:latin typeface="Arial"/>
                </a:rPr>
                <a:t> H</a:t>
              </a:r>
              <a:r>
                <a:rPr b="0" lang="en-US" sz="2000" spc="-1" strike="noStrike" baseline="30000">
                  <a:solidFill>
                    <a:srgbClr val="21272e"/>
                  </a:solidFill>
                  <a:latin typeface="Arial"/>
                </a:rPr>
                <a:t>+</a:t>
              </a:r>
              <a:r>
                <a:rPr b="0" lang="en-US" sz="2000" spc="-1" strike="noStrike">
                  <a:solidFill>
                    <a:srgbClr val="21272e"/>
                  </a:solidFill>
                  <a:latin typeface="Arial"/>
                </a:rPr>
                <a:t> + CH</a:t>
              </a:r>
              <a:r>
                <a:rPr b="0" lang="en-US" sz="2000" spc="-1" strike="noStrike" baseline="-25000">
                  <a:solidFill>
                    <a:srgbClr val="21272e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21272e"/>
                  </a:solidFill>
                  <a:latin typeface="Arial"/>
                </a:rPr>
                <a:t>COO</a:t>
              </a:r>
              <a:r>
                <a:rPr b="0" lang="en-US" sz="2000" spc="-1" strike="noStrike" baseline="30000">
                  <a:solidFill>
                    <a:srgbClr val="21272e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12"/>
            <p:cNvSpPr/>
            <p:nvPr/>
          </p:nvSpPr>
          <p:spPr>
            <a:xfrm flipH="1">
              <a:off x="2319120" y="210816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Text Box 16"/>
          <p:cNvSpPr/>
          <p:nvPr/>
        </p:nvSpPr>
        <p:spPr>
          <a:xfrm>
            <a:off x="179640" y="260496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72e"/>
                </a:solidFill>
                <a:latin typeface="Arial"/>
              </a:rPr>
              <a:t>Diprotic</a:t>
            </a: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8"/>
          <p:cNvSpPr/>
          <p:nvPr/>
        </p:nvSpPr>
        <p:spPr>
          <a:xfrm>
            <a:off x="669960" y="3124080"/>
            <a:ext cx="256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 H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+ HS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21"/>
          <p:cNvSpPr/>
          <p:nvPr/>
        </p:nvSpPr>
        <p:spPr>
          <a:xfrm>
            <a:off x="674640" y="3657600"/>
            <a:ext cx="242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HS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 H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+ S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26"/>
          <p:cNvSpPr/>
          <p:nvPr/>
        </p:nvSpPr>
        <p:spPr>
          <a:xfrm>
            <a:off x="176400" y="435780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72e"/>
                </a:solidFill>
                <a:latin typeface="Arial"/>
              </a:rPr>
              <a:t>Triprotic</a:t>
            </a: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8"/>
          <p:cNvSpPr/>
          <p:nvPr/>
        </p:nvSpPr>
        <p:spPr>
          <a:xfrm>
            <a:off x="676800" y="4876920"/>
            <a:ext cx="257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P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H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P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2"/>
          <p:cNvSpPr/>
          <p:nvPr/>
        </p:nvSpPr>
        <p:spPr>
          <a:xfrm>
            <a:off x="681120" y="5326200"/>
            <a:ext cx="262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P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+ HP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36"/>
          <p:cNvSpPr/>
          <p:nvPr/>
        </p:nvSpPr>
        <p:spPr>
          <a:xfrm>
            <a:off x="680040" y="5745240"/>
            <a:ext cx="251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HP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 H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+ P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9"/>
          <p:cNvSpPr/>
          <p:nvPr/>
        </p:nvSpPr>
        <p:spPr>
          <a:xfrm>
            <a:off x="4438440" y="4861080"/>
            <a:ext cx="424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**Triprotic acids are gener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weak electrolyte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therefore weak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Strong Acids and Base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-87480" y="15238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1272e"/>
                </a:solidFill>
                <a:uFillTx/>
                <a:latin typeface="Palatino Linotype"/>
              </a:rPr>
              <a:t>Strong Acids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ClO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(perchloric acid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I (hydroiodic acid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Br (hydrobromic acid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Cl (hydrochloric acid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O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(sulfuric acid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NO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(nitric acid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4267080" y="1060560"/>
            <a:ext cx="5029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1272e"/>
                </a:solidFill>
                <a:uFillTx/>
                <a:latin typeface="Palatino Linotype"/>
              </a:rPr>
              <a:t>Strong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LiOH (lithium hydrox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aOH (sodium hydrox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KOH (potassium hydrox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RbOH (rubidium hydrox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CsOH (cesium hydrox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Ca(OH)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(calcium hydrox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r(OH)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(strontium hydrox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Ba(OH)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(barium hydrox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Box 4"/>
          <p:cNvSpPr/>
          <p:nvPr/>
        </p:nvSpPr>
        <p:spPr>
          <a:xfrm>
            <a:off x="228600" y="51055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Mainly the acids of halid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4495680" y="614988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Mainly the bases of alkali metals and some alkaline earth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Applicable Solution Def’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72e"/>
                </a:solidFill>
                <a:latin typeface="Palatino Linotype"/>
              </a:rPr>
              <a:t>Dissociation: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Process by which the action of a solvent or a change in physical condition, as in pressure or temperature, causes a molecule to split up into simpler groups of atoms, single atoms, or ions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72e"/>
                </a:solidFill>
                <a:latin typeface="Palatino Linotype"/>
              </a:rPr>
              <a:t>Ionization: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Process by which a neutral compound is split into charged particles by action when dissolved in liquid water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72e"/>
                </a:solidFill>
                <a:latin typeface="Palatino Linotype"/>
              </a:rPr>
              <a:t>Equilibrium: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When reactants and products are in a constant ratio. The forward and reverse reactions occur at the same rate when a system is in equilibrium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Ionization Reaction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72e"/>
                </a:solidFill>
                <a:latin typeface="Palatino Linotype"/>
              </a:rPr>
              <a:t>Completion: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For those that include a </a:t>
            </a:r>
            <a:r>
              <a:rPr b="1" lang="en-US" sz="3200" spc="-1" strike="noStrike" u="sng">
                <a:solidFill>
                  <a:srgbClr val="21272e"/>
                </a:solidFill>
                <a:uFillTx/>
                <a:latin typeface="Palatino Linotype"/>
              </a:rPr>
              <a:t>strong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acid or strong base, the reaction will run to completion and can be shown as such with a generic ‘yields’ symbol (</a:t>
            </a:r>
            <a:r>
              <a:rPr b="0" lang="en-US" sz="32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72e"/>
                </a:solidFill>
                <a:latin typeface="Palatino Linotype"/>
              </a:rPr>
              <a:t>Equilibrium: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For those that include a </a:t>
            </a:r>
            <a:r>
              <a:rPr b="1" lang="en-US" sz="3200" spc="-1" strike="noStrike" u="sng">
                <a:solidFill>
                  <a:srgbClr val="21272e"/>
                </a:solidFill>
                <a:uFillTx/>
                <a:latin typeface="Palatino Linotype"/>
              </a:rPr>
              <a:t>weak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acid or base or do not go to completion, the reaction can be represented by an equilibrium symbol (</a:t>
            </a:r>
            <a:r>
              <a:rPr b="0" lang="en-US" sz="3200" spc="-1" strike="noStrike">
                <a:solidFill>
                  <a:srgbClr val="21272e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Ok, one more old dude!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-6840" y="136836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Søren Sørenson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Denmark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Biochemis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Early 20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th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century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roposed the pH scal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88" name="Picture 5" descr="sorensen4"/>
          <p:cNvPicPr/>
          <p:nvPr/>
        </p:nvPicPr>
        <p:blipFill>
          <a:blip r:embed="rId1"/>
          <a:stretch/>
        </p:blipFill>
        <p:spPr>
          <a:xfrm>
            <a:off x="4280040" y="957240"/>
            <a:ext cx="510192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Equilibrium Constant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w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= [H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] [OH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] = 1.0 x 10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14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= [products] / [reactants]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Weak acids and bases: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Easily written, use quadratic (or assumption) to solve by using and I.C.E. chart in examples to follow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Strong acids and bases: </a:t>
            </a:r>
            <a:r>
              <a:rPr b="1" lang="en-US" sz="3200" spc="-1" strike="noStrike" u="sng">
                <a:solidFill>
                  <a:srgbClr val="21272e"/>
                </a:solidFill>
                <a:uFillTx/>
                <a:latin typeface="Palatino Linotype"/>
              </a:rPr>
              <a:t>(cannot be written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13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Cl +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 </a:t>
            </a:r>
            <a:r>
              <a:rPr b="0" lang="en-US" sz="24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Cl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13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Ka = [Cl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][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] / [HCl] 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Where [HCl] </a:t>
            </a:r>
            <a:r>
              <a:rPr b="0" lang="en-US" sz="24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0 , therefore Ka gets very larg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Examples of Weak Acids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HF (hydrofluoric acid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CO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3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 (carbonic acid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S (hydrosulfuric acid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3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BO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3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 (boric acid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C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3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COOH (acetic acid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C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6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5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COOH (benzoic acid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C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6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4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(OH)CO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COC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3 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(acetylsalicylic acid)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2" name="Text Box 8"/>
          <p:cNvSpPr/>
          <p:nvPr/>
        </p:nvSpPr>
        <p:spPr>
          <a:xfrm>
            <a:off x="4838760" y="461484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Times New Roman"/>
              </a:rPr>
              <a:t>Acetic acid found in vinegar is a common example of a weak acid found in a househ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Picture 2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29606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Examples of Weak Bases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N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3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 (ammonia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N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4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 (hydrazine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(C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3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)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NH (dimethylamine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C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5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5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N (pyridine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C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3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N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 (methylamine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NaHCO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3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 (baking soda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656" name="Picture 7" descr="sodabox"/>
          <p:cNvPicPr/>
          <p:nvPr/>
        </p:nvPicPr>
        <p:blipFill>
          <a:blip r:embed="rId1"/>
          <a:stretch/>
        </p:blipFill>
        <p:spPr>
          <a:xfrm>
            <a:off x="5257800" y="1523880"/>
            <a:ext cx="2895480" cy="327672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8"/>
          <p:cNvSpPr/>
          <p:nvPr/>
        </p:nvSpPr>
        <p:spPr>
          <a:xfrm>
            <a:off x="4952880" y="5105520"/>
            <a:ext cx="3429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Times New Roman"/>
              </a:rPr>
              <a:t>NaHC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Times New Roman"/>
              </a:rPr>
              <a:t> otherwise known as baking soda is a common base found in a househ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Palatino Linotype"/>
              </a:rPr>
              <a:t>Terms To Know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H – the negative of the logarithm to the base ten of the concentration of hydrogen (hydronium) ions in a solution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H = -log [ H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+ 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]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OH – the negative of the logarithm to the base ten of the concentration of hydroxide (OH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)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ions in a solution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OH = -log [ OH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 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]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Palatino Linotype"/>
              </a:rPr>
              <a:t>Terms To Know (cont’d)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What is an 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acid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?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An 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acid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is a substance from which a hydrogen ion, 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H</a:t>
            </a:r>
            <a:r>
              <a:rPr b="0" lang="en-US" sz="3200" spc="-1" strike="noStrike" baseline="30000">
                <a:solidFill>
                  <a:srgbClr val="c00000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, can be removed (proton donor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What is a </a:t>
            </a:r>
            <a:r>
              <a:rPr b="0" lang="en-US" sz="3200" spc="-1" strike="noStrike">
                <a:solidFill>
                  <a:srgbClr val="0070c0"/>
                </a:solidFill>
                <a:latin typeface="Palatino Linotype"/>
              </a:rPr>
              <a:t>base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?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A </a:t>
            </a:r>
            <a:r>
              <a:rPr b="0" lang="en-US" sz="3200" spc="-1" strike="noStrike">
                <a:solidFill>
                  <a:srgbClr val="0070c0"/>
                </a:solidFill>
                <a:latin typeface="Palatino Linotype"/>
              </a:rPr>
              <a:t>base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is a substance that is able to remove a hydrogen ion, </a:t>
            </a:r>
            <a:r>
              <a:rPr b="0" lang="en-US" sz="3200" spc="-1" strike="noStrike">
                <a:solidFill>
                  <a:srgbClr val="0070c0"/>
                </a:solidFill>
                <a:latin typeface="Palatino Linotype"/>
              </a:rPr>
              <a:t>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, from an acid (proton acceptor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Palatino Linotype"/>
              </a:rPr>
              <a:t>Terms To Know (cont’d)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What makes an acid a weak acid?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A 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weak acid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is an acid that partially ionizes in solution but exists primarily in the form of molecules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Palatino Linotype"/>
              </a:rPr>
              <a:t>What makes a base a weak base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?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A </a:t>
            </a:r>
            <a:r>
              <a:rPr b="0" lang="en-US" sz="3200" spc="-1" strike="noStrike">
                <a:solidFill>
                  <a:srgbClr val="0070c0"/>
                </a:solidFill>
                <a:latin typeface="Palatino Linotype"/>
              </a:rPr>
              <a:t>weak base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is a base that has a weak attraction for protons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Palatino Linotype"/>
              </a:rPr>
              <a:t>Terms To Know (cont’d)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Acid ionization constant (K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Palatino Linotype"/>
              </a:rPr>
              <a:t>a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) –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equilibrium constant for the ionization of an acid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Base ionization constant (K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Palatino Linotype"/>
              </a:rPr>
              <a:t>b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) –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equilibrium constant for the ionization of a base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ion product constant for water (K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Palatino Linotype"/>
              </a:rPr>
              <a:t>w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) –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equilibrium constant for the ionization of water; 1.0 * 10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14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Palatino Linotype"/>
              </a:rPr>
              <a:t>Equations to Keep In Mind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b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= K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w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H = -log [H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]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OH = -log [OH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]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H + pOH = 14 (at SATP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c00000"/>
                </a:solidFill>
                <a:uFillTx/>
                <a:latin typeface="Palatino Linotype"/>
              </a:rPr>
              <a:t>Steps in Calculating the pH of a solution of a weak acid, given K</a:t>
            </a:r>
            <a:r>
              <a:rPr b="0" lang="en-US" sz="3800" spc="-1" strike="noStrike" baseline="-25000">
                <a:solidFill>
                  <a:srgbClr val="c00000"/>
                </a:solidFill>
                <a:latin typeface="Palatino Linotype"/>
              </a:rPr>
              <a:t>a</a:t>
            </a:r>
            <a:endParaRPr b="0" lang="en-US" sz="3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1 – List the major substances in solution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2 – Write balanced equation for all substances that may produce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3 – Identify the dominant equilibrium, and write the equilibrium constant for the dominant equilibrium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4 – Complete an ICE table to record changes of the dominant equilibrium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5 – Substitute the equilibrium concentrations of all the substances of the equation into the acid ionization constant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6 – Assume [HA]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initial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– x = [HA]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initial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, but only if [HA]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initial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/ K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 u="sng">
                <a:solidFill>
                  <a:srgbClr val="21272e"/>
                </a:solidFill>
                <a:uFillTx/>
                <a:latin typeface="Palatino Linotype"/>
              </a:rPr>
              <a:t>&gt;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100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7 – solve for x ( [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] 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8 – Use the 5% rule to check the assumption made in step 6 is correct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9 – Calculate pH from [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]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Concentrations of [H</a:t>
            </a:r>
            <a:r>
              <a:rPr b="0" lang="en-US" sz="4800" spc="-1" strike="noStrike" baseline="30000">
                <a:solidFill>
                  <a:srgbClr val="fe3737"/>
                </a:solidFill>
                <a:latin typeface="Palatino Linotype"/>
              </a:rPr>
              <a:t>+</a:t>
            </a: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]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Actual concentrations of the hydronium ion, [H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], are often very smal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Therefore, Sørenson proposed a manipulation of the concentration of 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36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 in a way that made the data much more simple to relate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The pH scale is based on the logarithm of the concentration of H</a:t>
            </a:r>
            <a:r>
              <a:rPr b="0" lang="en-US" sz="36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Palatino Linotype"/>
              </a:rPr>
              <a:t>Sample Problem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Palatino Linotype"/>
              </a:rPr>
              <a:t>Calculate the hydrogen ion concentration and the pH of a 0.10mol/L acetic acid solution.  The K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Palatino Linotype"/>
              </a:rPr>
              <a:t>a</a:t>
            </a:r>
            <a:r>
              <a:rPr b="0" lang="en-US" sz="2800" spc="-1" strike="noStrike">
                <a:solidFill>
                  <a:srgbClr val="c00000"/>
                </a:solidFill>
                <a:latin typeface="Palatino Linotype"/>
              </a:rPr>
              <a:t> for acetic acid is 1.8 * 10</a:t>
            </a:r>
            <a:r>
              <a:rPr b="0" lang="en-US" sz="2800" spc="-1" strike="noStrike" baseline="30000">
                <a:solidFill>
                  <a:srgbClr val="c00000"/>
                </a:solidFill>
                <a:latin typeface="Palatino Linotype"/>
              </a:rPr>
              <a:t>-5.</a:t>
            </a:r>
            <a:endParaRPr b="0" lang="en-US" sz="2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21272e"/>
                </a:solidFill>
                <a:latin typeface="Garamond"/>
              </a:rPr>
              <a:t>Solution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Garamond"/>
              </a:rPr>
              <a:t>Step 1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– the major substances in this reaction that may ionize to produce 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are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 and H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Garamond"/>
              </a:rPr>
              <a:t>Step 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– H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+ 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–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= 1.8 * 10 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5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l)            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+  OH 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-              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w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= 1.0 * 10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14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Garamond"/>
              </a:rPr>
              <a:t>Step 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– Since the K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value  of H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is greater than the K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w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value of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l) ,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we can assume that most of the H 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will be produced  by the ionization of H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3" name="Line 4"/>
          <p:cNvSpPr/>
          <p:nvPr/>
        </p:nvSpPr>
        <p:spPr>
          <a:xfrm>
            <a:off x="3203640" y="4267080"/>
            <a:ext cx="38088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5"/>
          <p:cNvSpPr/>
          <p:nvPr/>
        </p:nvSpPr>
        <p:spPr>
          <a:xfrm flipH="1">
            <a:off x="3127320" y="4114800"/>
            <a:ext cx="45720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6"/>
          <p:cNvSpPr/>
          <p:nvPr/>
        </p:nvSpPr>
        <p:spPr>
          <a:xfrm>
            <a:off x="2670120" y="4876920"/>
            <a:ext cx="38088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7"/>
          <p:cNvSpPr/>
          <p:nvPr/>
        </p:nvSpPr>
        <p:spPr>
          <a:xfrm flipH="1">
            <a:off x="2593800" y="4648320"/>
            <a:ext cx="45720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Therefore, the ionization of H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will determine the [H+ (aq) ] and the pH of the solution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For the equilibrium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+ 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The equilibrium law equation 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[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 [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___________________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= K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[H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8" name="Line 4"/>
          <p:cNvSpPr/>
          <p:nvPr/>
        </p:nvSpPr>
        <p:spPr>
          <a:xfrm flipH="1">
            <a:off x="2286000" y="2286000"/>
            <a:ext cx="45720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5"/>
          <p:cNvSpPr/>
          <p:nvPr/>
        </p:nvSpPr>
        <p:spPr>
          <a:xfrm>
            <a:off x="2362320" y="2438280"/>
            <a:ext cx="38088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Step 4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 – 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ICE table for ionization of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 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	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	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       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	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     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HC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Palatino Linotype"/>
              </a:rPr>
              <a:t>2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H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Palatino Linotype"/>
              </a:rPr>
              <a:t>3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O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Palatino Linotype"/>
              </a:rPr>
              <a:t>2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 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Palatino Linotype"/>
              </a:rPr>
              <a:t>(aq)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Step 4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533520" y="1752480"/>
          <a:ext cx="8153280" cy="414180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HC</a:t>
                      </a:r>
                      <a:r>
                        <a:rPr b="0" lang="en-US" sz="24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(aq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400" spc="-1" strike="noStrike" baseline="30000">
                          <a:solidFill>
                            <a:srgbClr val="21272e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(aq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4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 baseline="30000">
                          <a:solidFill>
                            <a:srgbClr val="21272e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4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(aq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Initial Concen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0.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Change in Concen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-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+x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+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Equilibrium Concentration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0.10 - 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+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+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3" name="Line 239"/>
          <p:cNvSpPr/>
          <p:nvPr/>
        </p:nvSpPr>
        <p:spPr>
          <a:xfrm flipH="1">
            <a:off x="4419720" y="2057400"/>
            <a:ext cx="30456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240"/>
          <p:cNvSpPr/>
          <p:nvPr/>
        </p:nvSpPr>
        <p:spPr>
          <a:xfrm>
            <a:off x="4419720" y="1905120"/>
            <a:ext cx="30456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Palatino Linotype"/>
              </a:rPr>
              <a:t>Step 5 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[H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] [C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] 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___________________   = K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[HC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(aq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) ]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(x)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2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___________________   = 1.8 * 10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5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(0.10 – x 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2e"/>
                </a:solidFill>
                <a:latin typeface="Palatino Linotype"/>
              </a:rPr>
              <a:t>We can simplify the calculation by assuming that, since Ka is so small, HC</a:t>
            </a:r>
            <a:r>
              <a:rPr b="0" lang="en-US" sz="22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2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2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2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2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2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2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200" spc="-1" strike="noStrike">
                <a:solidFill>
                  <a:srgbClr val="21272e"/>
                </a:solidFill>
                <a:latin typeface="Palatino Linotype"/>
              </a:rPr>
              <a:t> will ionize very little and the value of x is expected to be very small.  But to make sure that the assumption is valid, the Hundred Rule must be used first to validate the assumption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1272e"/>
                </a:solidFill>
                <a:latin typeface="Palatino Linotype"/>
              </a:rPr>
              <a:t>Step 6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[HA]initial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= </a:t>
            </a: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  0.10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     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    1.8 * 10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5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= 5.6 * 10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3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Since 5.6 * 10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&gt; 100, we can assume that 0.10 – x  =  0.10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Palatino Linotype"/>
              </a:rPr>
              <a:t>Step 7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The equilibrium equation becomes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x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2      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-------------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= 1.8 * 10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5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0.10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x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2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= 1.8 * 10 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6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x 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= 1.3 * 10 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3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1272e"/>
                </a:solidFill>
                <a:latin typeface="Palatino Linotype"/>
              </a:rPr>
              <a:t>Step 8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We must now validate the approximation of 0.10 – x = 0.10.  Since Ka values are usually known to an accuracy of </a:t>
            </a: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+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5%, we will use this figure to validate the assumption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x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      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--------------------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* 100%   </a:t>
            </a: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&lt;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5%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[HA]initial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1.3 * 10</a:t>
            </a:r>
            <a:r>
              <a:rPr b="0" lang="en-US" sz="2000" spc="-1" strike="noStrike" u="sng" baseline="30000">
                <a:solidFill>
                  <a:srgbClr val="21272e"/>
                </a:solidFill>
                <a:uFillTx/>
                <a:latin typeface="Palatino Linotype"/>
              </a:rPr>
              <a:t>-3</a:t>
            </a: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 mol/L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*  100% </a:t>
            </a: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&lt;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5%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0.10 mol/L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1.3% </a:t>
            </a: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&lt;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5%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Therefore the assumption can be considered valid and the value of the calculated value of x is acceptable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Garamond"/>
              </a:rPr>
              <a:t>Step 9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[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 = x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[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 = 1.3 * 10-3 mol/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= -log [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= -log (1.3 * 10-3 mol/L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= 2.89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2e"/>
                </a:solidFill>
                <a:latin typeface="Palatino Linotype"/>
              </a:rPr>
              <a:t>Therefore the pH of a 0.10 mol/L acetic acid solution is 2.89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-2088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c00000"/>
                </a:solidFill>
                <a:uFillTx/>
                <a:latin typeface="Palatino Linotype"/>
              </a:rPr>
              <a:t>Steps in Calculating the pH of a solution of a weak base, given K</a:t>
            </a:r>
            <a:r>
              <a:rPr b="0" lang="en-US" sz="3800" spc="-1" strike="noStrike" u="sng" baseline="-25000">
                <a:solidFill>
                  <a:srgbClr val="c00000"/>
                </a:solidFill>
                <a:uFillTx/>
                <a:latin typeface="Palatino Linotype"/>
              </a:rPr>
              <a:t>b</a:t>
            </a:r>
            <a:endParaRPr b="0" lang="en-US" sz="3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1 – List the major substances in solution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2 – Write balanced equation for all substances that may produce O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3 – Identify the dominant equilibrium, and write the equilibrium constant for the dominant equilibrium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4 – Complete an ICE table to record changes of the dominant equilibrium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5 – Substitute the equilibrium concentrations of all the substances of the equation into the acid ionization constant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6 – Assume [B]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initial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– x = [B]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initial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, but only if [B]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initial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/ K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b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 u="sng">
                <a:solidFill>
                  <a:srgbClr val="21272e"/>
                </a:solidFill>
                <a:uFillTx/>
                <a:latin typeface="Palatino Linotype"/>
              </a:rPr>
              <a:t>&gt;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100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7 – solve for x ( [ O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 -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] 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8 – Use the 5% rule to check the assumption made in step 6 is correct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9 – Calculate pOH from [ O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]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10 – Calculate the pH by substituting the value of pOH into pH + pOH = 14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Palatino Linotype"/>
              </a:rPr>
              <a:t>Sample Problem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Palatino Linotype"/>
              </a:rPr>
              <a:t>Calculate the pH of a 0.100mol/L aqueous solution of hydrazine, N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c00000"/>
                </a:solidFill>
                <a:latin typeface="Palatino Linotype"/>
              </a:rPr>
              <a:t>H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Palatino Linotype"/>
              </a:rPr>
              <a:t>4</a:t>
            </a:r>
            <a:r>
              <a:rPr b="0" lang="en-US" sz="2800" spc="-1" strike="noStrike">
                <a:solidFill>
                  <a:srgbClr val="c00000"/>
                </a:solidFill>
                <a:latin typeface="Palatino Linotype"/>
              </a:rPr>
              <a:t> 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Palatino Linotype"/>
              </a:rPr>
              <a:t>(aq)</a:t>
            </a:r>
            <a:r>
              <a:rPr b="0" lang="en-US" sz="2800" spc="-1" strike="noStrike">
                <a:solidFill>
                  <a:srgbClr val="c00000"/>
                </a:solidFill>
                <a:latin typeface="Palatino Linotype"/>
              </a:rPr>
              <a:t>, a weak base given that K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Palatino Linotype"/>
              </a:rPr>
              <a:t>b</a:t>
            </a:r>
            <a:r>
              <a:rPr b="0" lang="en-US" sz="2800" spc="-1" strike="noStrike">
                <a:solidFill>
                  <a:srgbClr val="c00000"/>
                </a:solidFill>
                <a:latin typeface="Palatino Linotype"/>
              </a:rPr>
              <a:t> for hydrazine is 1.7 * 10</a:t>
            </a:r>
            <a:r>
              <a:rPr b="0" lang="en-US" sz="2800" spc="-1" strike="noStrike" baseline="30000">
                <a:solidFill>
                  <a:srgbClr val="c00000"/>
                </a:solidFill>
                <a:latin typeface="Palatino Linotype"/>
              </a:rPr>
              <a:t>-6</a:t>
            </a:r>
            <a:endParaRPr b="0" lang="en-US" sz="2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2e"/>
                </a:solidFill>
                <a:latin typeface="Garamond"/>
              </a:rPr>
              <a:t>Solutio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Garamond"/>
              </a:rPr>
              <a:t>Step 1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– the major substances in solution are  N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and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Garamond"/>
              </a:rPr>
              <a:t>Step 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N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l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N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5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+ O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b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= 1.7 * 10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6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l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+ O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                     K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w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=  1.0 * 10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14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2e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4" name="Line 4"/>
          <p:cNvSpPr/>
          <p:nvPr/>
        </p:nvSpPr>
        <p:spPr>
          <a:xfrm>
            <a:off x="2971800" y="4114800"/>
            <a:ext cx="30492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5"/>
          <p:cNvSpPr/>
          <p:nvPr/>
        </p:nvSpPr>
        <p:spPr>
          <a:xfrm flipH="1">
            <a:off x="2971440" y="4267080"/>
            <a:ext cx="30492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6"/>
          <p:cNvSpPr/>
          <p:nvPr/>
        </p:nvSpPr>
        <p:spPr>
          <a:xfrm>
            <a:off x="1447920" y="4572000"/>
            <a:ext cx="30456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7"/>
          <p:cNvSpPr/>
          <p:nvPr/>
        </p:nvSpPr>
        <p:spPr>
          <a:xfrm flipH="1">
            <a:off x="1447920" y="4724280"/>
            <a:ext cx="30456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Calculating pH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The pH of a solution is defined as the negative logarithm of the hydrogen ion concentration (in mol/L)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= -log[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= -log[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Therefore, the pH range of solutions are as follows: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Acidic Solutions,  pH &lt; 7.0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Basic Solutions,    pH &gt; 7.0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Neutral Solution, pH = 7.0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1272e"/>
                </a:solidFill>
                <a:latin typeface="Garamond"/>
              </a:rPr>
              <a:t>Step 3</a:t>
            </a:r>
            <a:r>
              <a:rPr b="0" lang="en-US" sz="2900" spc="-1" strike="noStrike">
                <a:solidFill>
                  <a:srgbClr val="21272e"/>
                </a:solidFill>
                <a:latin typeface="Palatino Linotype"/>
              </a:rPr>
              <a:t> –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Since the Kw &lt;&lt; Kb, the N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equilibrium will predominate in the solution, and it will be assumed that all O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ions present in the solution will be produced by the N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equilibrium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For the equilibrium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+ 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The equilibrium law equation 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[N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5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 [OH 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___________________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= K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b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[N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4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9" name="Line 4"/>
          <p:cNvSpPr/>
          <p:nvPr/>
        </p:nvSpPr>
        <p:spPr>
          <a:xfrm>
            <a:off x="2362320" y="3200400"/>
            <a:ext cx="30456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5"/>
          <p:cNvSpPr/>
          <p:nvPr/>
        </p:nvSpPr>
        <p:spPr>
          <a:xfrm flipH="1">
            <a:off x="2362320" y="3352680"/>
            <a:ext cx="30456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Step 4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 – 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ICE table for ionization of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 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	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	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       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	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     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N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Palatino Linotype"/>
              </a:rPr>
              <a:t>2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H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Palatino Linotype"/>
              </a:rPr>
              <a:t>4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 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Palatino Linotype"/>
              </a:rPr>
              <a:t>(aq)</a:t>
            </a:r>
            <a:endParaRPr b="0" lang="en-US" sz="3200" spc="-1" strike="noStrike">
              <a:solidFill>
                <a:srgbClr val="c00000"/>
              </a:solidFill>
              <a:latin typeface="Palatino Linotype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457200" y="1828800"/>
          <a:ext cx="8229600" cy="4284720"/>
        </p:xfrm>
        <a:graphic>
          <a:graphicData uri="http://schemas.openxmlformats.org/drawingml/2006/table">
            <a:tbl>
              <a:tblPr/>
              <a:tblGrid>
                <a:gridCol w="1828800"/>
                <a:gridCol w="1600200"/>
                <a:gridCol w="1508040"/>
                <a:gridCol w="1646280"/>
                <a:gridCol w="1646280"/>
              </a:tblGrid>
              <a:tr h="88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1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1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1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1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1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(aq)     </a:t>
                      </a:r>
                      <a:r>
                        <a:rPr b="0" lang="en-US" sz="21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6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O </a:t>
                      </a:r>
                      <a:r>
                        <a:rPr b="0" lang="en-US" sz="26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(l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1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1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1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100" spc="-1" strike="noStrike" baseline="30000">
                          <a:solidFill>
                            <a:srgbClr val="21272e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1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1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(aq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OH </a:t>
                      </a:r>
                      <a:r>
                        <a:rPr b="0" lang="en-US" sz="2000" spc="-1" strike="noStrike" baseline="30000">
                          <a:solidFill>
                            <a:srgbClr val="21272e"/>
                          </a:solidFill>
                          <a:latin typeface="Arial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(aq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Initial Concentration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0.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3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Change in Concentration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-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+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+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Equilibrium Concentration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0.100 - 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+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+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Line 285"/>
          <p:cNvSpPr/>
          <p:nvPr/>
        </p:nvSpPr>
        <p:spPr>
          <a:xfrm>
            <a:off x="4952880" y="2057400"/>
            <a:ext cx="38124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86"/>
          <p:cNvSpPr/>
          <p:nvPr/>
        </p:nvSpPr>
        <p:spPr>
          <a:xfrm flipH="1">
            <a:off x="4952520" y="2209680"/>
            <a:ext cx="38124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Garamond"/>
              </a:rPr>
              <a:t>Step 5</a:t>
            </a:r>
            <a:r>
              <a:rPr b="0" lang="en-US" sz="3500" spc="-1" strike="noStrike">
                <a:solidFill>
                  <a:srgbClr val="21272e"/>
                </a:solidFill>
                <a:latin typeface="Palatino Linotype"/>
              </a:rPr>
              <a:t>  </a:t>
            </a:r>
            <a:endParaRPr b="0" lang="en-US" sz="3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[N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5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 [OH 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___________________   = K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b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[N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(x)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___________________   = 1.7 * 10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6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(0.10 – x 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The Hundred Rule will then be used to see whether a simplifying assumption may be made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Garamond"/>
              </a:rPr>
              <a:t>Step 6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1272e"/>
                </a:solidFill>
                <a:uFillTx/>
                <a:latin typeface="Palatino Linotype"/>
              </a:rPr>
              <a:t>[HA]initial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= </a:t>
            </a:r>
            <a:r>
              <a:rPr b="0" lang="en-US" sz="2400" spc="-1" strike="noStrike" u="sng">
                <a:solidFill>
                  <a:srgbClr val="21272e"/>
                </a:solidFill>
                <a:uFillTx/>
                <a:latin typeface="Palatino Linotype"/>
              </a:rPr>
              <a:t>  0.10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  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  1.7 * 10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6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= 5.9 * 10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4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Since 5.9 * 10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4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&gt;&gt; 100, it is safe to assume that           0.100 – x = 0.1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Garamond"/>
              </a:rPr>
              <a:t>Step 7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The equilibrium equation becomes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x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2     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-------------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= 1.7 * 10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6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0.10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x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2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= 1.7 * 10 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7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x 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= 4.12 * 10 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4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Garamond"/>
              </a:rPr>
              <a:t>Step 8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x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      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--------------------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* 100%   </a:t>
            </a: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&lt;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5%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[HA]initial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4.12 * 10</a:t>
            </a:r>
            <a:r>
              <a:rPr b="0" lang="en-US" sz="2000" spc="-1" strike="noStrike" u="sng" baseline="30000">
                <a:solidFill>
                  <a:srgbClr val="21272e"/>
                </a:solidFill>
                <a:uFillTx/>
                <a:latin typeface="Palatino Linotype"/>
              </a:rPr>
              <a:t>-4</a:t>
            </a: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 mol/L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*  100% </a:t>
            </a: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&lt;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0.41%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0.10 mol/L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Since 0.41% &lt;&lt;  5%, the assumption made is justified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Garamond"/>
              </a:rPr>
              <a:t>Step 9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x 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= 4.12 * 10 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4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[OH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] = 4.12 * 10 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4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pOH = -log [OH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 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]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= -log [4.12 * 10 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4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      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= 3.38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Garamond"/>
              </a:rPr>
              <a:t>Step 10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+ pOH = 14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= 14.00 - pOH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= 14.00 – 3.38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= 10.6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2e"/>
                </a:solidFill>
                <a:latin typeface="Palatino Linotype"/>
              </a:rPr>
              <a:t>Therefore the pH of a 0.100 mol/L hydrazine is 10.62.</a:t>
            </a:r>
            <a:r>
              <a:rPr b="1" lang="en-US" sz="2700" spc="-1" strike="noStrike">
                <a:solidFill>
                  <a:srgbClr val="21272e"/>
                </a:solidFill>
                <a:latin typeface="Palatino Linotype"/>
              </a:rPr>
              <a:t>  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Palatino Linotype"/>
              </a:rPr>
              <a:t>Practice Question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Palatino Linotype"/>
              </a:rPr>
              <a:t>1) Determine the pH of a solution with a hydrogen concentration of 4.8 * 10</a:t>
            </a:r>
            <a:r>
              <a:rPr b="0" lang="en-US" sz="2600" spc="-1" strike="noStrike" baseline="30000">
                <a:solidFill>
                  <a:srgbClr val="21272e"/>
                </a:solidFill>
                <a:latin typeface="Palatino Linotype"/>
              </a:rPr>
              <a:t>-11</a:t>
            </a:r>
            <a:r>
              <a:rPr b="0" lang="en-US" sz="2600" spc="-1" strike="noStrike">
                <a:solidFill>
                  <a:srgbClr val="21272e"/>
                </a:solidFill>
                <a:latin typeface="Palatino Linotype"/>
              </a:rPr>
              <a:t>?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Palatino Linotype"/>
              </a:rPr>
              <a:t>2) Determine the pH of a solution with a hydroxide concentration of 3.0 * 10</a:t>
            </a:r>
            <a:r>
              <a:rPr b="0" lang="en-US" sz="2600" spc="-1" strike="noStrike" baseline="30000">
                <a:solidFill>
                  <a:srgbClr val="21272e"/>
                </a:solidFill>
                <a:latin typeface="Palatino Linotype"/>
              </a:rPr>
              <a:t>-6</a:t>
            </a:r>
            <a:r>
              <a:rPr b="0" lang="en-US" sz="2600" spc="-1" strike="noStrike">
                <a:solidFill>
                  <a:srgbClr val="21272e"/>
                </a:solidFill>
                <a:latin typeface="Palatino Linotype"/>
              </a:rPr>
              <a:t>?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Palatino Linotype"/>
              </a:rPr>
              <a:t>3) Determine the pH of a 0.01 mol/L solution of chloracetic acid given Ka = 1.36 * 10</a:t>
            </a:r>
            <a:r>
              <a:rPr b="0" lang="en-US" sz="2600" spc="-1" strike="noStrike" baseline="30000">
                <a:solidFill>
                  <a:srgbClr val="21272e"/>
                </a:solidFill>
                <a:latin typeface="Palatino Linotype"/>
              </a:rPr>
              <a:t>-3</a:t>
            </a:r>
            <a:r>
              <a:rPr b="0" lang="en-US" sz="2600" spc="-1" strike="noStrike">
                <a:solidFill>
                  <a:srgbClr val="21272e"/>
                </a:solidFill>
                <a:latin typeface="Palatino Linotype"/>
              </a:rPr>
              <a:t>?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Palatino Linotype"/>
              </a:rPr>
              <a:t>4) Determine the pH of a solution of morphine that has a concentration of 0.01mol/L, given that Kb for morphine is 7.5 * 10</a:t>
            </a:r>
            <a:r>
              <a:rPr b="0" lang="en-US" sz="2600" spc="-1" strike="noStrike" baseline="30000">
                <a:solidFill>
                  <a:srgbClr val="21272e"/>
                </a:solidFill>
                <a:latin typeface="Palatino Linotype"/>
              </a:rPr>
              <a:t>-7</a:t>
            </a:r>
            <a:r>
              <a:rPr b="0" lang="en-US" sz="2600" spc="-1" strike="noStrike">
                <a:solidFill>
                  <a:srgbClr val="21272e"/>
                </a:solidFill>
                <a:latin typeface="Palatino Linotype"/>
              </a:rPr>
              <a:t>?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880" y="-60984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Palatino Linotype"/>
              </a:rPr>
              <a:t>Works Cited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2e"/>
                </a:solidFill>
                <a:latin typeface="Garamond"/>
              </a:rPr>
              <a:t>Book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McMurray, John; Fay, Robeter C. </a:t>
            </a:r>
            <a:r>
              <a:rPr b="0" lang="en-US" sz="2400" spc="-1" strike="noStrike" u="sng">
                <a:solidFill>
                  <a:srgbClr val="21272e"/>
                </a:solidFill>
                <a:uFillTx/>
                <a:latin typeface="Garamond"/>
              </a:rPr>
              <a:t>Chemistry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. New Jersey: Prentice Hall Inc., 1995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Van Kessel, Hans; Jenkins, Frank; Davies, Lucille; Plumb, Donald; Digiuseppe, Maurice; Lantz, Oliver; Tompkins, Dick. </a:t>
            </a:r>
            <a:r>
              <a:rPr b="0" lang="en-US" sz="2400" spc="-1" strike="noStrike" u="sng">
                <a:solidFill>
                  <a:srgbClr val="21272e"/>
                </a:solidFill>
                <a:uFillTx/>
                <a:latin typeface="Garamond"/>
              </a:rPr>
              <a:t>Chemistry 12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. Canada: Kevin Martindale, 2003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McNealy, Edward.  </a:t>
            </a:r>
            <a:r>
              <a:rPr b="0" lang="en-US" sz="2400" spc="-1" strike="noStrike" u="sng">
                <a:solidFill>
                  <a:srgbClr val="21272e"/>
                </a:solidFill>
                <a:uFillTx/>
                <a:latin typeface="Garamond"/>
              </a:rPr>
              <a:t>Acids and Bases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.  Chemistry.  New York: Bedford, 1998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2e"/>
                </a:solidFill>
                <a:latin typeface="Garamond"/>
              </a:rPr>
              <a:t>Powerpoint Modified from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Areta, Steven. </a:t>
            </a:r>
            <a:r>
              <a:rPr b="0" lang="en-US" sz="2400" spc="-1" strike="noStrike" u="sng">
                <a:solidFill>
                  <a:srgbClr val="21272e"/>
                </a:solidFill>
                <a:uFillTx/>
                <a:latin typeface="Garamond"/>
              </a:rPr>
              <a:t>The pH of Weak Acids and Weak Bases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, 2009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Palatino Linotype"/>
              </a:rPr>
              <a:t>Works Cited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2e"/>
                </a:solidFill>
                <a:latin typeface="Garamond"/>
              </a:rPr>
              <a:t>Websit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Clark, Jim. “Strong and Weak Bases.” Chemguide. 2002. May 16</a:t>
            </a:r>
            <a:r>
              <a:rPr b="0" lang="en-US" sz="2400" spc="-1" strike="noStrike" baseline="30000">
                <a:solidFill>
                  <a:srgbClr val="21272e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, 2003. </a:t>
            </a:r>
            <a:r>
              <a:rPr b="0" lang="en-US" sz="2400" spc="-1" strike="noStrike" u="sng">
                <a:solidFill>
                  <a:srgbClr val="d26900"/>
                </a:solidFill>
                <a:uFillTx/>
                <a:latin typeface="Garamond"/>
                <a:hlinkClick r:id="rId1"/>
              </a:rPr>
              <a:t>http://www.chemguide.co.uk/index.html#top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Weak Acids and Weak Bases.” </a:t>
            </a:r>
            <a:r>
              <a:rPr b="0" lang="en-US" sz="2400" spc="-1" strike="noStrike" u="sng">
                <a:solidFill>
                  <a:srgbClr val="21272e"/>
                </a:solidFill>
                <a:uFillTx/>
                <a:latin typeface="Garamond"/>
              </a:rPr>
              <a:t>Acids and Bases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. May 16</a:t>
            </a:r>
            <a:r>
              <a:rPr b="0" lang="en-US" sz="2400" spc="-1" strike="noStrike" baseline="30000">
                <a:solidFill>
                  <a:srgbClr val="21272e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, 2003. </a:t>
            </a:r>
            <a:r>
              <a:rPr b="0" lang="en-US" sz="2400" spc="-1" strike="noStrike" u="sng">
                <a:solidFill>
                  <a:srgbClr val="d26900"/>
                </a:solidFill>
                <a:uFillTx/>
                <a:latin typeface="Garamond"/>
                <a:hlinkClick r:id="rId2"/>
              </a:rPr>
              <a:t>http://www.chemtutor.com/acid.htm#strong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Topic 9 – Acids and Bases.” </a:t>
            </a:r>
            <a:r>
              <a:rPr b="0" lang="en-US" sz="2400" spc="-1" strike="noStrike" u="sng">
                <a:solidFill>
                  <a:srgbClr val="21272e"/>
                </a:solidFill>
                <a:uFillTx/>
                <a:latin typeface="Garamond"/>
              </a:rPr>
              <a:t>IB Chemistry Notes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. May 16</a:t>
            </a:r>
            <a:r>
              <a:rPr b="0" lang="en-US" sz="2400" spc="-1" strike="noStrike" baseline="30000">
                <a:solidFill>
                  <a:srgbClr val="21272e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, 2003. </a:t>
            </a:r>
            <a:r>
              <a:rPr b="0" lang="en-US" sz="2400" spc="-1" strike="noStrike" u="sng">
                <a:solidFill>
                  <a:srgbClr val="d26900"/>
                </a:solidFill>
                <a:uFillTx/>
                <a:latin typeface="Garamond"/>
                <a:hlinkClick r:id="rId3"/>
              </a:rPr>
              <a:t>http://homepage.mac.com/stray/ib/chem/index.htm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The pH scale is logarithmic 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52280" y="11430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Since pH 7 is neutra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5 is 10 x more acidic than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6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4 is 100 x more acidic than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6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3 is 1000 x more acidic than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6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9 is 10 x more alkaline than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8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10 is 100 x more alkaline than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8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e3737"/>
              </a:solidFill>
              <a:latin typeface="Palatino Linotyp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72e"/>
              </a:solidFill>
              <a:latin typeface="Palatino Linotype"/>
            </a:endParaRPr>
          </a:p>
        </p:txBody>
      </p:sp>
      <p:pic>
        <p:nvPicPr>
          <p:cNvPr id="597" name="Picture 7" descr="pHscale"/>
          <p:cNvPicPr/>
          <p:nvPr/>
        </p:nvPicPr>
        <p:blipFill>
          <a:blip r:embed="rId1"/>
          <a:stretch/>
        </p:blipFill>
        <p:spPr>
          <a:xfrm>
            <a:off x="950760" y="152280"/>
            <a:ext cx="7086600" cy="685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What is pOH? 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OH is the opposite of pH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If pH goes down, pOH goes up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The pOH scale is: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Basic Solutions:     pOH &lt; 7.0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Acidic Solutions:   pOH &gt; 7.0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Neutral Solutions: pOH = 7.0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H + pOH = 14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OH = -log [OH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3737"/>
                </a:solidFill>
                <a:latin typeface="Palatino Linotype"/>
              </a:rPr>
              <a:t>Find the pH of a 12M solution of HCl</a:t>
            </a:r>
            <a:endParaRPr b="0" lang="en-US" sz="40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72e"/>
                </a:solidFill>
                <a:latin typeface="Palatino Linotype"/>
              </a:rPr>
              <a:t>pH = -log (12M) = -1.07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72e"/>
                </a:solidFill>
                <a:latin typeface="Palatino Linotype"/>
              </a:rPr>
              <a:t>“</a:t>
            </a:r>
            <a:r>
              <a:rPr b="1" lang="en-US" sz="3200" spc="-1" strike="noStrike">
                <a:solidFill>
                  <a:srgbClr val="21272e"/>
                </a:solidFill>
                <a:latin typeface="Palatino Linotype"/>
              </a:rPr>
              <a:t>Why is the pH of 12 Molar HCl 0 and not -1.07?”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72e"/>
                </a:solidFill>
                <a:latin typeface="Palatino Linotype"/>
              </a:rPr>
              <a:t>Any solution with a pH or pOH calculation that results in a negative number will have a pH or pOH of zero (0)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Aqueous Solutions of A&amp;B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What happens when you put an acid or a base into water?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Each have the property of being electrolytes so will therefore dissociat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Water itself can act as an acid or a bas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 </a:t>
            </a:r>
            <a:r>
              <a:rPr b="0" lang="en-US" sz="24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(or   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+ O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      (or  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+ O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6:04:30Z</dcterms:created>
  <dc:creator>scheffler</dc:creator>
  <dc:description/>
  <dc:language>en-US</dc:language>
  <cp:lastModifiedBy>ECATECH</cp:lastModifiedBy>
  <dcterms:modified xsi:type="dcterms:W3CDTF">2010-09-01T11:43:58Z</dcterms:modified>
  <cp:revision>72</cp:revision>
  <dc:subject/>
  <dc:title>Introduction to Chemistry</dc:title>
</cp:coreProperties>
</file>